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28FC-D8BA-45EF-951E-D08D0C54F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A429-6DA1-4F8B-885C-F935416DD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EA62-4B67-48B8-BE48-6C9D93B3B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06B8-B068-42AB-A0D2-3C71E33FD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F578-1552-47D4-B698-26126AC32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A67E-0F68-456B-B2B1-32A15DF14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6295-CE30-4769-A049-99B74E4D7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DD9B-21BF-4377-B8C4-4E299BFB0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C52D-A91F-4880-A9F6-FA72AA422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8452-6BD8-4041-8ECB-3C1675855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4C59-6732-4456-9AF0-D330F58F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2D09-5208-4C74-9ABD-78F0F5866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42C6D-4BF4-4674-B987-BFAE9A7609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914040"/>
            <a:ext cx="8460000" cy="13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eorgia"/>
              </a:rPr>
              <a:t>Sea Shanties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35240" y="2336760"/>
            <a:ext cx="5715000" cy="3835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381400" y="6197760"/>
            <a:ext cx="531648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pper ships were very fast, and were used to haul cargo across the atlantic oce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320" y="5994000"/>
            <a:ext cx="9658440" cy="144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capstan was used to raise the anchor, which was much too heavy for a person to pull up by h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641680" y="1117440"/>
            <a:ext cx="4724280" cy="4229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27640" y="812880"/>
            <a:ext cx="474516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magine these men singing a capstan shanty to walk in tim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7320" y="5587920"/>
            <a:ext cx="965844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se halyards had to be hauled up the mast with ropes and human strength! Halyard shanties repeated a key word at regular intervals which signaled the men to pull when singing the word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15920" y="304920"/>
            <a:ext cx="803592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930320" y="101520"/>
            <a:ext cx="6113520" cy="749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